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269-BC37-499F-9B7E-9FDEF424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F06-0EC2-4E11-B687-6C6F4567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0EC-4F51-469F-9F15-AE0B96AE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A30-AA35-4629-B79D-41E2A84E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3D0-803D-4DFC-B762-E20F0FDC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1AC-D3F7-4CC8-933A-4F6E06E4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E55-5B17-4FC7-9F8B-C007753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288-7D54-4D52-A750-AA0DC71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B72-5B5C-463B-98C4-13786FAF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BD8-9B70-4E04-A7DF-A6DB86C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F87-DEF7-437C-8569-2AEE306E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EAD-5360-447F-A135-7DB29A5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1B01-B30E-42C9-B5A2-BCF663732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983RCXWwpZVvi_ph" descr=""/>
          <p:cNvPicPr/>
          <p:nvPr/>
        </p:nvPicPr>
        <p:blipFill>
          <a:blip r:embed="rId2"/>
          <a:stretch/>
        </p:blipFill>
        <p:spPr>
          <a:xfrm>
            <a:off x="0" y="0"/>
            <a:ext cx="3867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361800"/>
            <a:ext cx="52578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وهوَ ملجانَ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لا نَخَافُ السُو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ُّ نجّانا من شَدائِدن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نُقبِلْ إِلَيْهِ وَلْنَسمَعْ لَه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وتُ الَربِّ ناعِمٌ يدخُلُ في الأَعماق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َعْمُ الربِّ لَذيذٌ أشهى مِن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َسَلْ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ِيرُ الربِّ طَيّبٌ حِمْلُ الرَبِّ خَفيف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َلْبُ الربِّ وديعٌ طوبىَ لِمَنْ يَهواه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18:17Z</dcterms:created>
  <dc:creator>USER</dc:creator>
  <dc:description/>
  <dc:language>en-US</dc:language>
  <cp:lastModifiedBy>USER</cp:lastModifiedBy>
  <dcterms:modified xsi:type="dcterms:W3CDTF">2002-10-30T16:20:03Z</dcterms:modified>
  <cp:revision>2</cp:revision>
  <dc:subject/>
  <dc:title>PowerPoint Presentation</dc:title>
</cp:coreProperties>
</file>